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3AD-79B1-4851-82B4-60530650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FFE-92B0-4655-AA5F-D45A5ED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231-D107-454A-8C0D-C21EC27A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8A6-1918-4476-8691-3AFA16F2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0AC-9114-4626-9374-6B8E7A9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D2B-DBFB-47E6-BC23-3E45602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11F-1F41-4DEF-BD93-DDFF46D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395-821D-4243-AE5D-D9B9FA0B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424-7778-422B-8192-C21F7C0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81E-FAB5-48F5-A04B-4FEDA17E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AAE-CC78-49D5-811A-9AFCAD5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2D5-82DF-40C0-82B3-480EB9E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517B1-1106-484C-B924-6320044EF0B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22B5-65F5-405F-AADD-E24F026955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hiladelphia Conven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2- The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. 41-4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031840" y="1724040"/>
            <a:ext cx="5080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Objectiv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aluate how the Constitutional Convention dealt with issues of equa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ize the major compromises of the Constitutional Conven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why economic issues were high on the agenda at the Constitutional Convention and how the framers tried to strengthen the economic powers of the new national govern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hiladelphia Conven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4320" y="1600200"/>
            <a:ext cx="445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5 delegates met in May 1787 to amend the Articles of Confed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andoned Articles and began writing the U.S. Constitu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57200" y="2333520"/>
            <a:ext cx="40813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Task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common views did the delegates have regar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uman Natur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olitical Conflic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he Objects of Government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he Nature of Governmen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80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 N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nical view of human n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ople motivated by power and mone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vernment should control the natural self-interest of the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261040" y="1417680"/>
            <a:ext cx="2539800" cy="301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073920" y="3697200"/>
            <a:ext cx="261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7440" y="1600200"/>
            <a:ext cx="47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tical Conflic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ison’s 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nequal distribution of wealth led to confli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flict led to the development of fa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ctions led to instability, violence, and tyrann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vernment needed to limit the power of faction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334120" y="1887480"/>
            <a:ext cx="3352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7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bject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tection of Property and Wealth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Sec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ation of Ord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motion of General Welf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345280" y="2322360"/>
            <a:ext cx="3341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 Into Ac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e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vored a limited govern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ecks on power would limit fa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08360" y="3573360"/>
            <a:ext cx="3287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3:45:15Z</dcterms:created>
  <dc:creator>Katie Madison</dc:creator>
  <dc:description/>
  <dc:language>en-US</dc:language>
  <cp:lastModifiedBy>Katie Madison</cp:lastModifiedBy>
  <dcterms:modified xsi:type="dcterms:W3CDTF">2010-08-31T14:17:29Z</dcterms:modified>
  <cp:revision>2</cp:revision>
  <dc:subject/>
  <dc:title>The Philadelphia Convention </dc:title>
</cp:coreProperties>
</file>